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2B0A0-19C6-4B2F-9121-EFBE795260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1834F-091F-40C1-B688-E0865D8819B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56BEF-EF3E-4CB3-8E19-6B3075229F6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787D8-7614-4F99-AB9B-7538546BEFA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B13B6-9D89-432B-9D65-E5C8617995A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D1ECF-5513-4CDC-9D97-249261EB98E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CF4BD-6CE1-4337-8EF2-6E0B3C3170D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4F436-0C0E-48F3-BD75-1BA796EAE44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0EEF0-03A3-4426-AB20-AB7BB4B9FA9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5ABC4-A0A4-40F0-8A93-F0EA124A057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BE00A-34A6-4BB9-A1B9-529D6F1E6BB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BE54-D06F-408E-8DD9-392208D75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06C3-B6B8-47DB-B692-FC5BEFD5F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3F51-FAD4-4896-B817-DC8D3A460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FDA2-0650-441E-A62A-8BEBC1B9D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68E3E-C106-4FA7-9493-ECAA6D32E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A2869-DD7A-4A5E-B638-B7C69D4E9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5D995-8388-46B6-AD9B-82379F877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C5B9B-C752-47D5-84B1-59BA9C71A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5A790-3082-4E26-87FD-C402C031F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107AB-DDE0-4299-8B84-DEA0A5193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B2E4A-9B56-49F1-962E-3A5513FDE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83E0-FFB9-4A98-857F-7E4370467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78F6F-4B5A-435A-874A-EA86F571E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D86E7-0900-4DCC-AA2F-D92C0236E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7F224-01F3-4226-BC1A-279407D9A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70F72-FC70-4605-A982-EF82D835A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D7E5E-1C74-4C85-94DC-FB4E21593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E6ED-9F1B-4241-AC6B-22932894C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05A8-2E13-467B-9AC2-F88B571A0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9D7D-68F7-47B3-9876-A2856C3A8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43FD-46FB-45DE-8A98-796405BEE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01F5-FB58-4267-ADEA-CB84723CB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28E0-F5BF-4BD7-91B3-4678D318B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800F-0616-4FD0-9E5A-1993DD392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3C692-F597-4939-9866-147690107DC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Rectangle 3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Line 5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2CBBB-82A2-4689-968D-1C32159C269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6781680" cy="20574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Plagiarism &amp;</a:t>
            </a:r>
            <a:br>
              <a:rPr sz="6200"/>
            </a:b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iting Sources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187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5" descr="bartWRHa"/>
          <p:cNvPicPr/>
          <p:nvPr/>
        </p:nvPicPr>
        <p:blipFill>
          <a:blip r:embed="rId1"/>
          <a:srcRect l="6129" t="7997" r="9851" b="24535"/>
          <a:stretch/>
        </p:blipFill>
        <p:spPr>
          <a:xfrm>
            <a:off x="2743200" y="2514600"/>
            <a:ext cx="3654360" cy="419112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7"/>
          <p:cNvSpPr/>
          <p:nvPr/>
        </p:nvSpPr>
        <p:spPr>
          <a:xfrm>
            <a:off x="8077320" y="6172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ks Cite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b7d20"/>
                </a:solidFill>
                <a:latin typeface="Abadi MT Condensed Extra Bold"/>
              </a:rPr>
              <a:t>www.lifeinspired.org/ quote_bubble.jpg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b7d20"/>
                </a:solidFill>
                <a:latin typeface="Abadi MT Condensed Extra Bold"/>
              </a:rPr>
              <a:t>bookbuzz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b7d20"/>
                </a:solidFill>
                <a:latin typeface="Abadi MT Condensed Extra Bold"/>
              </a:rPr>
              <a:t>www.eng.ritsumei.ac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cartoonstock.com/newscartoons/cartoonists/bgr/lowres/bgrn969l.jp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letusinsureyou.com/lightbulb%20idea.jp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yourunion.net/files/hands-coloured.p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en.wikipedia.org/wiki/Plagiaris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6176880" y="26622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genda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plagiarism i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ays to detect plagiarism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Online Citation Maker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Plagiarism i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o kidnap”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laiming or implying authorship or someone else’s work - “academic fraud/dishonesty”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3 ways to plagiarize: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Original ide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araphrasing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irect quot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4" descr="kidnap"/>
          <p:cNvPicPr/>
          <p:nvPr/>
        </p:nvPicPr>
        <p:blipFill>
          <a:blip r:embed="rId1"/>
          <a:stretch/>
        </p:blipFill>
        <p:spPr>
          <a:xfrm>
            <a:off x="6095880" y="0"/>
            <a:ext cx="2362320" cy="21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riginal Ide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Presenting someone else’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idea without crediting them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Give credit to unique ideas others have thought up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Known facts don’t have to be credited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When in doubt, state where you got the idea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4" descr=""/>
          <p:cNvPicPr/>
          <p:nvPr/>
        </p:nvPicPr>
        <p:blipFill>
          <a:blip r:embed="rId1"/>
          <a:stretch/>
        </p:blipFill>
        <p:spPr>
          <a:xfrm>
            <a:off x="5867280" y="304920"/>
            <a:ext cx="2489400" cy="248904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5"/>
          <p:cNvSpPr/>
          <p:nvPr/>
        </p:nvSpPr>
        <p:spPr>
          <a:xfrm>
            <a:off x="5610240" y="23590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irect Quot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ing someone else’s writing without putting it in quotes= blatant plagarism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ven if you credit the source in your bibliograph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4" descr="quote_bubble"/>
          <p:cNvPicPr/>
          <p:nvPr/>
        </p:nvPicPr>
        <p:blipFill>
          <a:blip r:embed="rId1"/>
          <a:stretch/>
        </p:blipFill>
        <p:spPr>
          <a:xfrm>
            <a:off x="6324480" y="380880"/>
            <a:ext cx="2006640" cy="10191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images-1"/>
          <p:cNvPicPr/>
          <p:nvPr/>
        </p:nvPicPr>
        <p:blipFill>
          <a:blip r:embed="rId2"/>
          <a:stretch/>
        </p:blipFill>
        <p:spPr>
          <a:xfrm>
            <a:off x="3886200" y="533520"/>
            <a:ext cx="716040" cy="5554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images-2"/>
          <p:cNvPicPr/>
          <p:nvPr/>
        </p:nvPicPr>
        <p:blipFill>
          <a:blip r:embed="rId3"/>
          <a:stretch/>
        </p:blipFill>
        <p:spPr>
          <a:xfrm>
            <a:off x="5029200" y="914400"/>
            <a:ext cx="716040" cy="5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araphrasing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writing someone else’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d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ntences with many of the same words/grammar structure as original source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Put the text in your own word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5" descr="bgrn969l"/>
          <p:cNvPicPr/>
          <p:nvPr/>
        </p:nvPicPr>
        <p:blipFill>
          <a:blip r:embed="rId1"/>
          <a:srcRect l="13006" t="18395" r="28165" b="29831"/>
          <a:stretch/>
        </p:blipFill>
        <p:spPr>
          <a:xfrm>
            <a:off x="6205680" y="152280"/>
            <a:ext cx="21445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ow to Avoid Plagiarism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Put quotes from the text in quotat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Paraphrasing: Rewrite phrase in your own words &amp; credit original source. Compare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Don’t rearrange or replace words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Don’t use “paper mills”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5" descr="avoid"/>
          <p:cNvPicPr/>
          <p:nvPr/>
        </p:nvPicPr>
        <p:blipFill>
          <a:blip r:embed="rId1"/>
          <a:stretch/>
        </p:blipFill>
        <p:spPr>
          <a:xfrm>
            <a:off x="5562720" y="3962520"/>
            <a:ext cx="2703240" cy="20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tecting Plagiarism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riting style, language, vocab, tone, grammar, etc. different than expected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Different writing styles in different parts of the paper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Online detection: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oogling lines of the pap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urnitin.co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5" descr="hands-coloured"/>
          <p:cNvPicPr/>
          <p:nvPr/>
        </p:nvPicPr>
        <p:blipFill>
          <a:blip r:embed="rId1"/>
          <a:stretch/>
        </p:blipFill>
        <p:spPr>
          <a:xfrm>
            <a:off x="6019920" y="3581280"/>
            <a:ext cx="2319120" cy="25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nline Citation Mak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Knight Cite - http://www.calvin.edu/library/knightcite/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BibMe - http://www.bibme.org/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2808360" y="18064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8T20:58:51Z</dcterms:created>
  <dc:creator>test</dc:creator>
  <dc:description/>
  <dc:language>en-US</dc:language>
  <cp:lastModifiedBy>test</cp:lastModifiedBy>
  <dcterms:modified xsi:type="dcterms:W3CDTF">2009-03-17T19:52:58Z</dcterms:modified>
  <cp:revision>8</cp:revision>
  <dc:subject/>
  <dc:title>Plagiarism &amp; Citing Sources</dc:title>
</cp:coreProperties>
</file>